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2390D-E911-4099-AFB1-0FB9B16ECB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яд Непарнокопыт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FA7FA-E43F-46EA-A0D1-7D32743F9F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яд объединяет 16 видов крупных животных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ечности снабжены копытами 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сутствие в скелете ключиц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таются только растительной пищ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9D933-D8ED-4B38-99C9-CA7580B911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яд включает  3 семе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пи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шад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соро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AC639-4B29-4F9D-A1FA-CBF944226C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ейство Тапиры  . У этих животных короткий хоботок , состоит из вытянутого носа и верхней губы. Масса тела – 180-300 кг,  бархатистый мех, толстая кожа. Длина тела 180-200см. На тапиров охотятся ради мяса и шкуры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3FBBE-3EB0-43EE-9677-AD804EDB6B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ейство  Лошади. Семейство включены зебры, куланы ,ослы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шади открыты  в 1879 году в горных пустынях Центральной Азии Н.А Пржевальским.  Сейчас известно более 100 пород. Используются в различных цел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F55AB-2F54-4BEA-A054-E0E98131BD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ланы. Примитивная лошадь ,встречается в Туркмении, Китае ,  Монголии. Питается злаками , полынью . Бегают со скоростью 60 км/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AC1CA-FA13-44BD-AA78-55C6E0829C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л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инные уши, узкие копыта короткая шерсть на хвосте. используют в хозяйств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AAFFC-E74C-4F7B-9D0B-8BF17DBD0C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бры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отные Африки. Пасутся  вместе с другими травоядными имеют много врагов.  Человек отстреливал их ради красивой шкуры , в результате чего многие виды занесены в Красную книг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5325D-22A9-4ED3-BD0F-34C9BF8048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ейство Носорог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большие тяжелые звери массой 3.5 т и более, высотой 1-2 м длина тела 2-5 м. Кожа толстая , почти лишена волос. На передней части морды находится один или два рога. Живут в Африке и Юж. Азии. Занесены в Красную книг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746D7-443A-4D96-9C3A-D559FC6B49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57A1-9FFE-4BB6-B335-CD9FD48D5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9444-0C74-4E48-B3A3-B75415522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D6B3-39AE-4735-A1F0-3577406F8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7D7D-5F29-45F6-A1EE-E0F99FA2B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A4D7-7960-4B50-BF49-367AFB75E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C3D0-0A6D-48D6-A774-6B7557983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7289-70E1-42AE-9002-8743B2CDC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F29E-5B9D-42D3-92C4-ED34EB647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CF5F-1AEB-4DEC-BA3E-C484F00CD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499A-8339-4E69-8905-DA3023DF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3993-27FF-44DC-B938-41DBB5EF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69D7-100A-46B3-BA0D-3BC954C2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110B2-E485-436C-A9E4-7AF772A38471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28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17135-AEE3-416C-9A6F-7FF694E35D04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3"/>
          <p:cNvSpPr/>
          <p:nvPr/>
        </p:nvSpPr>
        <p:spPr>
          <a:xfrm>
            <a:off x="500040" y="56437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5E91C-38D7-4211-9561-E14AED7D9AE7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28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Нижний колонтитул 4"/>
          <p:cNvSpPr/>
          <p:nvPr/>
        </p:nvSpPr>
        <p:spPr>
          <a:xfrm>
            <a:off x="3071880" y="56437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Отряд Непарнокопытные 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Calibri"/>
            </a:endParaRPr>
          </a:p>
        </p:txBody>
      </p:sp>
      <p:pic>
        <p:nvPicPr>
          <p:cNvPr id="93" name="Picture 6" descr="C:\Documents and Settings\Аркадий\Мои документы\Downloads\000013858699.jpg"/>
          <p:cNvPicPr/>
          <p:nvPr/>
        </p:nvPicPr>
        <p:blipFill>
          <a:blip r:embed="rId1"/>
          <a:stretch/>
        </p:blipFill>
        <p:spPr>
          <a:xfrm>
            <a:off x="0" y="0"/>
            <a:ext cx="4794120" cy="3186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C:\Documents and Settings\Аркадий\Мои документы\Downloads\singapore (43).jpg"/>
          <p:cNvPicPr/>
          <p:nvPr/>
        </p:nvPicPr>
        <p:blipFill>
          <a:blip r:embed="rId2"/>
          <a:stretch/>
        </p:blipFill>
        <p:spPr>
          <a:xfrm>
            <a:off x="3368520" y="2521080"/>
            <a:ext cx="5775480" cy="433692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дати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5CA64-0503-4C11-90F6-722D940A62B3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28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Отряд объединяет 16 видов крупных животных .</a:t>
            </a:r>
            <a:endParaRPr b="1" lang="en-US" sz="2800" spc="-1" strike="noStrike">
              <a:solidFill>
                <a:srgbClr val="0000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                              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Признаки </a:t>
            </a:r>
            <a:endParaRPr b="1" lang="en-US" sz="2800" spc="-1" strike="noStrike">
              <a:solidFill>
                <a:srgbClr val="0000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Конечности снабжены копытами , </a:t>
            </a:r>
            <a:endParaRPr b="1" lang="en-US" sz="2800" spc="-1" strike="noStrike">
              <a:solidFill>
                <a:srgbClr val="0000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отсутствие в скелете ключицы, </a:t>
            </a:r>
            <a:endParaRPr b="1" lang="en-US" sz="2800" spc="-1" strike="noStrike">
              <a:solidFill>
                <a:srgbClr val="0000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питаются только растительной пищей.</a:t>
            </a:r>
            <a:endParaRPr b="1" lang="en-US" sz="28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3" name="Місце для дати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82D4-E471-4582-B45A-6C04F0020E2E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28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219280" y="620280"/>
            <a:ext cx="374508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Отряд включает  3 семейства</a:t>
            </a:r>
            <a:endParaRPr b="1" lang="en-US" sz="1800" spc="-1" strike="noStrike">
              <a:solidFill>
                <a:srgbClr val="000066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Тапиры</a:t>
            </a:r>
            <a:endParaRPr b="1" lang="en-US" sz="1800" spc="-1" strike="noStrike">
              <a:solidFill>
                <a:srgbClr val="000066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Лошади</a:t>
            </a:r>
            <a:endParaRPr b="1" lang="en-US" sz="1800" spc="-1" strike="noStrike">
              <a:solidFill>
                <a:srgbClr val="000066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Носороги</a:t>
            </a:r>
            <a:endParaRPr b="1" lang="en-US" sz="1800" spc="-1" strike="noStrike">
              <a:solidFill>
                <a:srgbClr val="000066"/>
              </a:solidFill>
              <a:latin typeface="Calibri"/>
            </a:endParaRPr>
          </a:p>
        </p:txBody>
      </p:sp>
      <p:pic>
        <p:nvPicPr>
          <p:cNvPr id="56" name="Picture 10" descr="C:\Documents and Settings\Аркадий\Рабочий стол\64298796.jpg"/>
          <p:cNvPicPr/>
          <p:nvPr/>
        </p:nvPicPr>
        <p:blipFill>
          <a:blip r:embed="rId1"/>
          <a:stretch/>
        </p:blipFill>
        <p:spPr>
          <a:xfrm>
            <a:off x="285840" y="357120"/>
            <a:ext cx="3792600" cy="2914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C:\Documents and Settings\Аркадий\Рабочий стол\0_1b42_647d43da_XL.jpg"/>
          <p:cNvPicPr/>
          <p:nvPr/>
        </p:nvPicPr>
        <p:blipFill>
          <a:blip r:embed="rId2"/>
          <a:stretch/>
        </p:blipFill>
        <p:spPr>
          <a:xfrm>
            <a:off x="5619600" y="3500280"/>
            <a:ext cx="3524400" cy="3071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C:\Documents and Settings\Аркадий\Рабочий стол\per013.jpg"/>
          <p:cNvPicPr/>
          <p:nvPr/>
        </p:nvPicPr>
        <p:blipFill>
          <a:blip r:embed="rId3"/>
          <a:stretch/>
        </p:blipFill>
        <p:spPr>
          <a:xfrm>
            <a:off x="0" y="3643200"/>
            <a:ext cx="4857840" cy="321480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дати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3626A-AB27-4470-91CD-9415C05D77BF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28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98360" y="171000"/>
            <a:ext cx="8569440" cy="15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alibri"/>
              </a:rPr>
              <a:t>Семейство Тапиры  . У этих животных короткий хоботок , состоит из вытянутого носа и верхней губы. Масса тела – 180-300 кг,  бархатистый мех, толстая кожа. Длина тела 180-200см. На тапиров охотятся ради мяса и шкуры.  </a:t>
            </a:r>
            <a:endParaRPr b="1" lang="en-US" sz="2000" spc="-1" strike="noStrike">
              <a:solidFill>
                <a:srgbClr val="000066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Calibri"/>
            </a:endParaRPr>
          </a:p>
        </p:txBody>
      </p:sp>
      <p:pic>
        <p:nvPicPr>
          <p:cNvPr id="62" name="Picture 9" descr="C:\Documents and Settings\Аркадий\Рабочий стол\0009-009-CHeprachnyj-tapir.jpg"/>
          <p:cNvPicPr/>
          <p:nvPr/>
        </p:nvPicPr>
        <p:blipFill>
          <a:blip r:embed="rId1"/>
          <a:stretch/>
        </p:blipFill>
        <p:spPr>
          <a:xfrm>
            <a:off x="0" y="1285920"/>
            <a:ext cx="4379760" cy="3571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C:\Documents and Settings\Аркадий\Рабочий стол\per013.jpg"/>
          <p:cNvPicPr/>
          <p:nvPr/>
        </p:nvPicPr>
        <p:blipFill>
          <a:blip r:embed="rId2"/>
          <a:stretch/>
        </p:blipFill>
        <p:spPr>
          <a:xfrm>
            <a:off x="4429080" y="2928960"/>
            <a:ext cx="4714920" cy="392904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дати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93A9A-D0C3-4575-B172-01FAD336AC8B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28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1736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alibri"/>
              </a:rPr>
              <a:t>Семейство  Лошади. Семейство включены зебры, куланы ,ослы.  </a:t>
            </a:r>
            <a:endParaRPr b="1" lang="en-US" sz="2000" spc="-1" strike="noStrike">
              <a:solidFill>
                <a:srgbClr val="000066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alibri"/>
              </a:rPr>
              <a:t>Лошади открыты  в 1879 году в горных пустынях Центральной Азии Н.А Пржевальским.  Сейчас известно более 100 пород. Используются в различных целях.</a:t>
            </a:r>
            <a:endParaRPr b="1" lang="en-US" sz="2000" spc="-1" strike="noStrike">
              <a:solidFill>
                <a:srgbClr val="000066"/>
              </a:solidFill>
              <a:latin typeface="Calibri"/>
            </a:endParaRPr>
          </a:p>
        </p:txBody>
      </p:sp>
      <p:pic>
        <p:nvPicPr>
          <p:cNvPr id="67" name="Picture 7" descr="C:\Documents and Settings\Аркадий\Рабочий стол\0_1b42_647d43da_XL.jpg"/>
          <p:cNvPicPr/>
          <p:nvPr/>
        </p:nvPicPr>
        <p:blipFill>
          <a:blip r:embed="rId1"/>
          <a:stretch/>
        </p:blipFill>
        <p:spPr>
          <a:xfrm>
            <a:off x="0" y="3071880"/>
            <a:ext cx="4827600" cy="3786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C:\Documents and Settings\Аркадий\Рабочий стол\0004-004-loshadi-Przhevalskogo.jpg"/>
          <p:cNvPicPr/>
          <p:nvPr/>
        </p:nvPicPr>
        <p:blipFill>
          <a:blip r:embed="rId2"/>
          <a:stretch/>
        </p:blipFill>
        <p:spPr>
          <a:xfrm>
            <a:off x="4762440" y="1143000"/>
            <a:ext cx="4381560" cy="328608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дати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E2135-65F4-45E1-AC40-E726D84D4D71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28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9636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Calibri"/>
              </a:rPr>
              <a:t>Куланы. Примитивная лошадь ,встречается в Туркмении, Китае ,  Монголии. Питается злаками , полынью . Бегают со скоростью 60 км/ч</a:t>
            </a:r>
            <a:endParaRPr b="1" lang="en-US" sz="2000" spc="-1" strike="noStrike">
              <a:solidFill>
                <a:srgbClr val="000066"/>
              </a:solidFill>
              <a:latin typeface="Calibri"/>
            </a:endParaRPr>
          </a:p>
        </p:txBody>
      </p:sp>
      <p:pic>
        <p:nvPicPr>
          <p:cNvPr id="72" name="Picture 5" descr="C:\Documents and Settings\Аркадий\Рабочий стол\a72c8dca33398bb7a11506b0d847dce8c5c6733f.preview.jpg"/>
          <p:cNvPicPr/>
          <p:nvPr/>
        </p:nvPicPr>
        <p:blipFill>
          <a:blip r:embed="rId1"/>
          <a:stretch/>
        </p:blipFill>
        <p:spPr>
          <a:xfrm>
            <a:off x="0" y="857160"/>
            <a:ext cx="3905280" cy="29289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C:\Documents and Settings\Аркадий\Рабочий стол\26668f25236e.jpg"/>
          <p:cNvPicPr/>
          <p:nvPr/>
        </p:nvPicPr>
        <p:blipFill>
          <a:blip r:embed="rId2"/>
          <a:stretch/>
        </p:blipFill>
        <p:spPr>
          <a:xfrm>
            <a:off x="4286160" y="3616200"/>
            <a:ext cx="4857840" cy="324180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дати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AD990-6C7F-452A-93D5-95A963DDE9A2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28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787640" y="1125360"/>
            <a:ext cx="421164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                        </a:t>
            </a: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Ослы.</a:t>
            </a:r>
            <a:endParaRPr b="1" lang="en-US" sz="2400" spc="-1" strike="noStrike">
              <a:solidFill>
                <a:srgbClr val="000066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Длинные уши, узкие копыта короткая шерсть на хвосте. используют в хозяйстве. </a:t>
            </a:r>
            <a:endParaRPr b="1" lang="en-US" sz="2400" spc="-1" strike="noStrike">
              <a:solidFill>
                <a:srgbClr val="000066"/>
              </a:solidFill>
              <a:latin typeface="Calibri"/>
            </a:endParaRPr>
          </a:p>
        </p:txBody>
      </p:sp>
      <p:pic>
        <p:nvPicPr>
          <p:cNvPr id="77" name="Picture 6" descr="C:\Documents and Settings\Аркадий\Рабочий стол\post-3-12081266684564.jpg"/>
          <p:cNvPicPr/>
          <p:nvPr/>
        </p:nvPicPr>
        <p:blipFill>
          <a:blip r:embed="rId1"/>
          <a:stretch/>
        </p:blipFill>
        <p:spPr>
          <a:xfrm>
            <a:off x="0" y="0"/>
            <a:ext cx="2724120" cy="3500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C:\Documents and Settings\Аркадий\Рабочий стол\0102.jpg"/>
          <p:cNvPicPr/>
          <p:nvPr/>
        </p:nvPicPr>
        <p:blipFill>
          <a:blip r:embed="rId2"/>
          <a:stretch/>
        </p:blipFill>
        <p:spPr>
          <a:xfrm>
            <a:off x="4143240" y="3143160"/>
            <a:ext cx="4810320" cy="360864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дати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77335-030E-4407-98C0-98254E5FF55F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28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Calibri"/>
              </a:rPr>
              <a:t>Зебры .</a:t>
            </a:r>
            <a:endParaRPr b="1" lang="en-US" sz="2000" spc="-1" strike="noStrike">
              <a:solidFill>
                <a:srgbClr val="000066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alibri"/>
              </a:rPr>
              <a:t>Животные Африки. Пасутся  вместе с другими травоядными имеют много врагов.  Человек отстреливал их ради красивой шкуры , в результате чего многие виды занесены в Красную книгу.</a:t>
            </a:r>
            <a:endParaRPr b="1" lang="en-US" sz="2000" spc="-1" strike="noStrike">
              <a:solidFill>
                <a:srgbClr val="000066"/>
              </a:solidFill>
              <a:latin typeface="Calibri"/>
            </a:endParaRPr>
          </a:p>
        </p:txBody>
      </p:sp>
      <p:pic>
        <p:nvPicPr>
          <p:cNvPr id="82" name="Picture 7" descr="C:\Documents and Settings\Аркадий\Рабочий стол\120929239411_(16).jpg"/>
          <p:cNvPicPr/>
          <p:nvPr/>
        </p:nvPicPr>
        <p:blipFill>
          <a:blip r:embed="rId1"/>
          <a:stretch/>
        </p:blipFill>
        <p:spPr>
          <a:xfrm>
            <a:off x="182520" y="1928880"/>
            <a:ext cx="3861000" cy="3513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C:\Documents and Settings\Аркадий\Рабочий стол\285_3.jpg"/>
          <p:cNvPicPr/>
          <p:nvPr/>
        </p:nvPicPr>
        <p:blipFill>
          <a:blip r:embed="rId2"/>
          <a:stretch/>
        </p:blipFill>
        <p:spPr>
          <a:xfrm>
            <a:off x="5572080" y="3857760"/>
            <a:ext cx="3400560" cy="3000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C:\Documents and Settings\Аркадий\Рабочий стол\ph09736.jpg"/>
          <p:cNvPicPr/>
          <p:nvPr/>
        </p:nvPicPr>
        <p:blipFill>
          <a:blip r:embed="rId3"/>
          <a:stretch/>
        </p:blipFill>
        <p:spPr>
          <a:xfrm>
            <a:off x="4214880" y="1428840"/>
            <a:ext cx="3174840" cy="242892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дати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91017-3238-482A-87CE-B57E60165F01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28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23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Семейство Носорогов. </a:t>
            </a:r>
            <a:endParaRPr b="1" lang="en-US" sz="2400" spc="-1" strike="noStrike">
              <a:solidFill>
                <a:srgbClr val="000066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Это большие тяжелые звери массой 3.5 т и более, высотой 1-2 м длина тела 2-5 м. Кожа толстая , почти лишена волос. На передней части морды находится один или два рога. Живут в Африке и Юж. Азии. Занесены в Красную книгу.</a:t>
            </a:r>
            <a:endParaRPr b="1" lang="en-US" sz="2400" spc="-1" strike="noStrike">
              <a:solidFill>
                <a:srgbClr val="000066"/>
              </a:solidFill>
              <a:latin typeface="Calibri"/>
            </a:endParaRPr>
          </a:p>
        </p:txBody>
      </p:sp>
      <p:pic>
        <p:nvPicPr>
          <p:cNvPr id="88" name="Picture 5" descr="C:\Documents and Settings\Аркадий\Рабочий стол\0008-008-Pantsirnyj-nosorog.jpg"/>
          <p:cNvPicPr/>
          <p:nvPr/>
        </p:nvPicPr>
        <p:blipFill>
          <a:blip r:embed="rId1"/>
          <a:stretch/>
        </p:blipFill>
        <p:spPr>
          <a:xfrm>
            <a:off x="0" y="3214800"/>
            <a:ext cx="4857840" cy="3643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C:\Documents and Settings\Аркадий\Рабочий стол\64298796.jpg"/>
          <p:cNvPicPr/>
          <p:nvPr/>
        </p:nvPicPr>
        <p:blipFill>
          <a:blip r:embed="rId2"/>
          <a:stretch/>
        </p:blipFill>
        <p:spPr>
          <a:xfrm>
            <a:off x="5278320" y="2214720"/>
            <a:ext cx="3865680" cy="297000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дати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64F91-BDE1-4848-89D8-382DC64E9BE4}" type="datetime3">
              <a:rPr b="1" lang="ru-RU" sz="1400" spc="-1" strike="noStrike">
                <a:solidFill>
                  <a:srgbClr val="000000"/>
                </a:solidFill>
                <a:latin typeface="Calibri"/>
              </a:rPr>
              <a:t>28 июля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1T11:11:57Z</dcterms:created>
  <dc:creator>user</dc:creator>
  <dc:description/>
  <dc:language>en-US</dc:language>
  <cp:lastModifiedBy>LEGION</cp:lastModifiedBy>
  <dcterms:modified xsi:type="dcterms:W3CDTF">2014-11-24T13:16:51Z</dcterms:modified>
  <cp:revision>14</cp:revision>
  <dc:subject/>
  <dc:title>Отряд Парнокопытные, семейство Полорогие</dc:title>
</cp:coreProperties>
</file>